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AAC0-4914-48B4-9C3D-FE712563D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B30B-A0EE-4A6E-8983-E27BB5A46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8C3A-E81B-4240-8CBA-B20F37AFD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663A-C04D-4AF4-92DD-C8A70440DE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06E24-3EA3-4CB3-A2D0-AE19D9454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22BE1-66C0-41E5-9CAD-78FC8D415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198BA-FB21-4043-AC4B-3C16FAA6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064D0-B4C0-4932-A8F1-B3CB22BDB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29EC8-91F0-42E8-A5C1-DC5BCA41CE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BBEFC-5863-499D-9F8C-05EE6AF9A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CF05E8-9FF5-413D-8A58-F81433275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F9D6-629A-4CD4-8087-F025B80006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987C0-BCDE-4216-B170-38FFCFCB1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FA999-D209-4DB1-953C-B723A1BDB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2B689-9243-461F-9993-1155F430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59E36-3B72-485E-9628-F3DD57649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8B932-3ED8-4B48-AC43-153673C50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C467-15A1-49B3-AE87-35E2EC983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04AA2-A0E7-442A-A6CF-895B3F16C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58853-9120-45D8-9012-209E4A99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6ECE2-A040-4DBF-904C-44B6E213E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DF85-4215-48CB-AE3E-E04CBAA2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6DCB-709E-4BA3-BAF6-C7D9A64C5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877D-8DFA-46AB-9E1D-32B7006F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CB0C-D609-4785-9877-2F0CFB23A7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4B38A-09FD-41ED-BB0E-3FC6B64850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4</a:t>
            </a: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장 교사의 양성 및 </a:t>
            </a:r>
            <a:br>
              <a:rPr sz="5400"/>
            </a:br>
            <a:r>
              <a:rPr b="1" lang="ko-KR" sz="5400" spc="-1" strike="noStrike">
                <a:solidFill>
                  <a:srgbClr val="ffffb7"/>
                </a:solidFill>
                <a:latin typeface="굴림"/>
              </a:rPr>
              <a:t>자격과 임용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초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폐쇄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국립 교육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국교원대학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화여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규모의 영세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의 교육과정과 현장의 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체능교과 전담제 연계 부족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개방 양성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 +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8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육학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2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일반대학 교직과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입학정원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에서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%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로 하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1998)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의 교육대학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에 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8,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 배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등학교 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극심한 수급 불균형과 사범대학 정체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사양성 교육과정의 특수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실습의 형식적 운영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유치원 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9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+ 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 대학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약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0 : 4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교 비율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70 : 3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의 학생비율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립의 비중이 높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과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제의 이원적 구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수여 기준의 일관성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 교사의 유치원 교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개선 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전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경쟁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교육의 개방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자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는 대통령이 정하는 법에 의하여 교과부 장관이 검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요하는 자격증을 받은 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자격기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pp. 154-16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ffffb7"/>
                </a:solidFill>
                <a:latin typeface="굴림"/>
              </a:rPr>
              <a:t>교원자격제도의 주요 문제점과 개선방안</a:t>
            </a:r>
            <a:endParaRPr b="1" lang="en-US" sz="36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수준의 질 통제장치 결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양성기관간의 격차를 무시한 획일적 자격 수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 운영의 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시험 검증 및 절차의 미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중간고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국의 아동낙오방지법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의 전문직관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권의 개념에 있어서 광의의 교권에 대하여 서술하시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각 문항 당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원 임용제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신규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사의 신규 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장과 원로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기간제 교사의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승진 임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경력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근무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수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교육성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연구실적 평정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ff"/>
                </a:solidFill>
                <a:latin typeface="굴림"/>
              </a:rPr>
              <a:t>가산점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임용 및 승진의 개선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다양한 임용기준에 의한 교원선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재 보완 시행 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습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연수 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승진 체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 및 평교사 자격의 다단계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관리와 교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석교사제의 도입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승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화와 최고의 전문직 자격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현장 특수교육의 어제와 오늘 조망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불모지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이 있는 땅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주인의 역할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산점 폐지와 미래의 전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바람직한 특수교사의 역할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우리의 각오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7" name="Rectangle 15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범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종합교원양성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양성대학의 설립 목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확고한 가치관과 건전한 교직윤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의 이념과 그 구체적 실천방안 체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질과 역량을 생애에 걸쳐 스스로 신장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교사양성 기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임시교원양성기관 설치 또는 인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규 교원양성기관에서 양성이 어려운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한시적으로 양성이 필요한 과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수급상 단기간 양성이 필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중등교육의 복수자격 취득 기회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서울맹아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제 고등학교 사범계에서 특수교사 최초 양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대학 수준 최초의 특수교사 양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96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한국사회사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 대구대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단국대학교와 이화여자대학교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강남사회복지대학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1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전주우석대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국립대학교로는 최초로 공주사범대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8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현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다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6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정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,568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특수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3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7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42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대학원 총정원으로 인가되어 있음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8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년 현재 특수교사 양성 현황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56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742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7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유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39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초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,143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80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명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자격증 제도의 변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0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년 전후의 자격증 변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제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마다 편차가 심하고 교수 편의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교육과정의 표층적 운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장애학생 요구에 맞는 교과 지원 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성 약화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치료교사 폐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심화교육과정 운영의 한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 재교육 심화교육과정 운영 필요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특수교사 양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ko-KR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래지향적 반성과 설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구조의 이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내와 전문성 함양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절제의 미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굴레의 사슬과 단절 시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상위학위 취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9T01:00:07Z</dcterms:created>
  <dc:creator>XPuser</dc:creator>
  <dc:description/>
  <dc:language>en-US</dc:language>
  <cp:lastModifiedBy>XPuser</cp:lastModifiedBy>
  <dcterms:modified xsi:type="dcterms:W3CDTF">2008-10-30T00:07:58Z</dcterms:modified>
  <cp:revision>15</cp:revision>
  <dc:subject/>
  <dc:title>제 4장 </dc:title>
</cp:coreProperties>
</file>